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E1CC-59FA-4547-BBE5-933581BB2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0D05-6045-4DE6-AACB-8DF6B7ABD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EB72-D250-40EF-81CD-C92F25D74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C51E-F641-4F27-8E76-86F160047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F46AD-CD52-4CF8-880B-A35F2492B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0843A-EFA1-4EB1-9BD5-2A71500A5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384E2-6F99-41D9-8A2A-67F25E600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AFE05-307C-487F-B56F-97D3B3DC9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B1ECF-0CAB-49BF-80F1-8413675AC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5AFCC-1628-45D4-9580-389197E81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D73FC-D98D-4E7A-A4B1-9257A901B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90D6-1FDC-4EB7-969C-0822AD7F5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E04FC-A1B1-4FF4-A634-8021A73AB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A1BE9-0CF6-4201-9542-C90316CF9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35B1F-657D-4432-8157-48BF725B7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2BA6E-59D8-4E3F-ADC3-6437C4A4C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C4EB4-D37D-4BDF-BE20-D99BA5E85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6BB7-17BC-4A41-963D-B99B0E9A2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8EAA-A130-43B2-9063-F5AF60B65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A4A0-808C-434D-9C7E-DE7BE5981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10C1-D1E7-4294-9384-4A143A89E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4309-20FA-453F-8C1B-C8E32801C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F01D-70AC-42E8-9BE9-F682C10A4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A834-7F56-4C90-8745-5A1691FF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A4A51-C44F-48E0-8223-E6D717F1920C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84FD0-F37B-49AD-BBEB-21464CF1FD88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enry &amp; Mudge </a:t>
            </a:r>
            <a:br>
              <a:rPr sz="4400"/>
            </a:b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              and the Starry Night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Vocabular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shivered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 person who goes into spac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 vehicle that carries astronauts into spac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hook with fea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shivered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.  Shook with fea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drooled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ec8ba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 test to find out something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cec8ba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Let saliva run from the mouth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cec8ba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Vehicle that carries astronauts into spac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drooled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B.  Let saliva run from the mouth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lantern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ec8ba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natural force that makes everything on Earth move toward i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cec8ba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est to find out something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cec8ba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Lights inside containers that can be carrie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lantern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.  Lights inside containers that can be carrie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snuggled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ec8ba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uddled togeth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cec8ba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natural force that makes everything on Earth move toward i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cec8ba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 person who goes into spac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snuggled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.  Cuddled togeth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5T23:21:01Z</dcterms:created>
  <dc:creator>Romona Hunt</dc:creator>
  <dc:description/>
  <dc:language>en-US</dc:language>
  <cp:lastModifiedBy>Romona Hunt</cp:lastModifiedBy>
  <dcterms:modified xsi:type="dcterms:W3CDTF">2007-09-02T23:51:05Z</dcterms:modified>
  <cp:revision>5</cp:revision>
  <dc:subject/>
  <dc:title>Exploring Space</dc:title>
</cp:coreProperties>
</file>